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E9A0-E4D0-4DDB-B1E9-0FB8EA25F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joints can be involved in RA, but rarely lumbar spine and DI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’s an AI disease, can also affect many other organ systems.  Nodules occur in typical places with synovitis, can also occur in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MARDs not typically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iggers: diuretics, contrast, etoh, tra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with typical monitoring required for people with AI disease: accelerated atherosclerosis, infection, osteoporosis.  Also need to screen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D596-FABB-4BBA-82CE-D22AC061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8772-C576-47BF-80C6-1E004CF8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C47-8F97-45A7-9F3F-C0413607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128-5C42-43F3-B49E-BCA47688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D0EE-0D10-4735-A737-F10103E4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5AA9-0DA6-41EA-8451-74BE148B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9EFF-B73A-4E19-A5C0-BFE2E514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3DC3-AE39-4CAD-ADAD-EFEE8D89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900B-3907-4C38-8F6D-C2509C82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E105-D0FD-48F4-AB2A-187840DA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29C6-BAC0-4E6A-A3CD-EE6D5902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D3E1-2F79-412B-8F4E-E6A6220D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7EFA-D25B-4A88-BFCA-51FE8957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E114-AA6F-4256-9B2A-E66447F2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AA16-C7B4-45D6-B55E-7AA7FCC7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A596-04E7-4DD5-A657-8756F7F9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974F-F48E-4858-85D4-327F3840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1932-D226-4C98-9221-1C97245C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69A8-8C9B-4289-8D8E-8FB6CFA9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984A-AB88-446C-86CA-CD2FD388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D86E-5246-4BA4-A850-7700A8B7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0A83-9F6F-4370-93A5-3AB44573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564-3135-48FF-B1E4-02E7BCB2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3B70-2215-49F7-876B-6B82CEB2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C3B5-1DAC-44DA-80F7-DA8C23C4CB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14AB-7736-417B-B328-77DA0ADDD7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heumatology Basic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355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lyani McCullough, M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nics and MOP Didac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heumatoid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ic, symmetric poly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starts with the PIPs, MCPs, MT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n affect most synovial joints (wrists, knees, elbows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esn’t affect DI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ning stiffness, pain, swelling (vs. OA: worse with activit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F, anti-CCP Ab or both in 70% of pati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F not specific, anti-CCP 90-98% speci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D, ESR, CR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ray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ular erosions and joint space narrow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oint distribution in RA vs. O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0" r="34168" b="4168"/>
          <a:stretch/>
        </p:blipFill>
        <p:spPr>
          <a:xfrm>
            <a:off x="5402160" y="1295280"/>
            <a:ext cx="3386160" cy="5562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22263" b="2819"/>
          <a:stretch/>
        </p:blipFill>
        <p:spPr>
          <a:xfrm>
            <a:off x="304920" y="1295280"/>
            <a:ext cx="3941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 – Physical Exam Finding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0" r="11254" b="0"/>
          <a:stretch/>
        </p:blipFill>
        <p:spPr>
          <a:xfrm>
            <a:off x="5105520" y="12952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1219320"/>
            <a:ext cx="3733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nar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mc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wan neck deform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extension of PIPs, flexion of D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utonniere deform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on of PIP, hyperextension of D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http://classconnection.s3.amazonaws.com/862/flashcards/749862/jpg/swan_neck_and_bouttonniere_deformity1319471979038.jpg"/>
          <p:cNvPicPr/>
          <p:nvPr/>
        </p:nvPicPr>
        <p:blipFill>
          <a:blip r:embed="rId3"/>
          <a:stretch/>
        </p:blipFill>
        <p:spPr>
          <a:xfrm>
            <a:off x="2362320" y="4497480"/>
            <a:ext cx="403848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A – Physical Exam Finding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http://www.osteoarthritisblog.com/wp-content/uploads/2012/03/nodes.jpg"/>
          <p:cNvPicPr/>
          <p:nvPr/>
        </p:nvPicPr>
        <p:blipFill>
          <a:blip r:embed="rId2"/>
          <a:stretch/>
        </p:blipFill>
        <p:spPr>
          <a:xfrm>
            <a:off x="0" y="1219320"/>
            <a:ext cx="5334120" cy="3477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images.rheumatology.org/image_dir/album75691/md_99-04-0006.tif.jpg"/>
          <p:cNvPicPr/>
          <p:nvPr/>
        </p:nvPicPr>
        <p:blipFill>
          <a:blip r:embed="rId3"/>
          <a:stretch/>
        </p:blipFill>
        <p:spPr>
          <a:xfrm>
            <a:off x="4952880" y="3882960"/>
            <a:ext cx="4191120" cy="2795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562720" y="145080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y outgrowths/ calcific spurs on PIPs and D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A – Extra-articular Manifesta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extra-articular finding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heumatoid nod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organ involvemen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jogren’s syndro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leri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stitial fibr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cardial effus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pheral neuropath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yloid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0" t="0" r="0" b="4442"/>
          <a:stretch/>
        </p:blipFill>
        <p:spPr>
          <a:xfrm>
            <a:off x="4724280" y="2133720"/>
            <a:ext cx="4038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 -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aggressive treatment leads to better longterm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corticoids acut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TX frequently u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 7.5mg weekly, increase to a max dose of 20-25mg week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ve with folate 1mg daily to reduce toxi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CBC, AST/ALT, Cr q 3 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raindication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iver disease, HBV/HCV, alcohol use, CrCl&lt;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xicitie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al ulcers, nausea, hepatotoxicity, BMS, pneumon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onydloarthropath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arthritis with involvement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croiliac (SI) j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ial s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on fas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ament insertion points (enthes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pheral j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nkylosing Spondyl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soriatic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s often involved, assoc with nail pit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ive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ggered by GI/GU inf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BD-associated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relates with bowel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ondyloarthropath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kylosing Spondyl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648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ammatory back pain in young adu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tion in spinal mobility, particularly lumbar 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ion with anterior uve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elative risk of HLA-B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0" t="0" r="5661" b="5176"/>
          <a:stretch/>
        </p:blipFill>
        <p:spPr>
          <a:xfrm>
            <a:off x="4876920" y="914400"/>
            <a:ext cx="3886200" cy="3502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37040" y="4711680"/>
            <a:ext cx="405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acroili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T, NS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rystal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ut – Natural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 Asymptomatic hyperuricem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 production or under excretion (or bot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Acute and intermittent g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acks triggered by fluctuations in UA level (up or down) and deposition of UA crystals in j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ute monoarthritis, often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ttack is at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years see bony erosions on xr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Chronic tophaceous g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urpose of this tal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rovide a foundation f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ing patients in Rheumatology cli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ting started on the work-up of suspected rheumatologic diseases in your cli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ew most common rheumatologic dis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st over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ource for l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ut -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ute attac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most efficacious if initiate treatment within 48h of ons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SAIDs – indomethac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void if h/o PUD or renal impair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chis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2mg PO x 1, then 0.6mg 1h later and q24h until symptoms impro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de effects: Diarrhea, abdominal pain, NSAIDs better toler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duce dose if Cr &gt; 1.5, risk of neuromuscular toxic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ucocortico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dnisone 20-40mg/d, taper 1-2 wks after symptoms resol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ut - Prophylax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al UA&lt;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anthine oxidase inhibitors (decrease produc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opurin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rt with 100mg daily, gradually increase do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x is 800mg/d, though 300-400mg usually effe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uce dose if diminished C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ersensitivity reaction can be fatal, more common in older patients with impaired Cr on diuret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develop rash, sto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ebuxost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abolized by liver, so better with renal impair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k with mild-moderate hepatic insufficien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ricosuric agents (increase excre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benac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 &lt;65, good renal function, not on more than ASA 81 da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de effects: rash and GI sympto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eudogou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ittent monoarthritis, often knee/wrist, though can b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t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homboid shaped, positively birefringent calcium pyrophosphate dihydrate (CPPD) cryst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be associated with other diseases: hemochromatosis, thyroid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SAIDs, colchis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disord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ic lupus erythematosis (S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iphospholipid antibody syndr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ynaud’s phenomen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cleroder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jogren’s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ermatomyositis and Polymyos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apsing Polychond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320" y="838080"/>
            <a:ext cx="5029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ly affects women of childbearing 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system relapsing/remitting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ects skin, musculoskeletal, renal, CV, pulmonary, GI, CNS, psy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5664" t="0" r="7548" b="0"/>
          <a:stretch/>
        </p:blipFill>
        <p:spPr>
          <a:xfrm>
            <a:off x="5410080" y="990720"/>
            <a:ext cx="3505320" cy="3224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93640" y="4981680"/>
            <a:ext cx="8474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Hallmark symptoms: photosensitive rash,       polyarthritis, serositis, fatig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Renal and CNS involvement -&gt; significant   morb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14440" y="1142640"/>
            <a:ext cx="4876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ence of antinuclear antibod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ce ANA positive, no need to reche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dsDNA and anti-Sm have great specificity, but lack sensitiv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ocomplementemia may occur during flar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3, C4, CH5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ucocorticoids, DM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http://upload.wikimedia.org/wikipedia/commons/thumb/2/29/DsDNA_antibodies.jpg/330px-DsDNA_antibodies.jpg"/>
          <p:cNvPicPr/>
          <p:nvPr/>
        </p:nvPicPr>
        <p:blipFill>
          <a:blip r:embed="rId2"/>
          <a:stretch/>
        </p:blipFill>
        <p:spPr>
          <a:xfrm>
            <a:off x="304920" y="1905120"/>
            <a:ext cx="32763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 - Monitor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upus nephrit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approx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ly immune complex glomerulonephr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reen q3 m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about polyuria, nocturia, foamy ur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for HTN and ed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s: UA – RBC casts, spot prot: Cr ra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gnose with biops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creased risk of malignanc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Hodkin’s and Non-Hodgkins lymphoma, Lung CA, Cervical 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cervical CA scre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rly in diseas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sk pain, fatigue, weight loss, G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re disorder, but symptoms common in primary c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 in diseas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ki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thickening, ischemic digital ulcers, pitting, telangectasias on face and pal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ung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interstitial fibrosis, pulmonary ht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GERD, dysphag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n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rare, but Scleroderma Renal Crisis (SRC) is life threatening emergen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rdia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ischemic inju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S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erosive arthritis, tendon friction ru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ST (limited scleroderma): calcinosis, raynaud’s, esophageal dysmotility, sclerodactyly, telangectas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http://www.dermnet.com/dn2/allJPG3/scleroderma-17.jpg"/>
          <p:cNvPicPr/>
          <p:nvPr/>
        </p:nvPicPr>
        <p:blipFill>
          <a:blip r:embed="rId2"/>
          <a:stretch/>
        </p:blipFill>
        <p:spPr>
          <a:xfrm>
            <a:off x="914400" y="1295280"/>
            <a:ext cx="3279600" cy="2186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478560" y="838080"/>
            <a:ext cx="1979640" cy="2438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http://4.bp.blogspot.com/_ZWqgYBROGHw/TQSybcry6iI/AAAAAAAAB90/8H6cazNmvME/s1600/1-palms-up-enlarged.jpg"/>
          <p:cNvPicPr/>
          <p:nvPr/>
        </p:nvPicPr>
        <p:blipFill>
          <a:blip r:embed="rId4"/>
          <a:stretch/>
        </p:blipFill>
        <p:spPr>
          <a:xfrm>
            <a:off x="743040" y="4114800"/>
            <a:ext cx="2914560" cy="2187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http://eso-cdn.bestpractice.bmj.com/best-practice/images/bp/en-gb/593-3_default.jpg"/>
          <p:cNvPicPr/>
          <p:nvPr/>
        </p:nvPicPr>
        <p:blipFill>
          <a:blip r:embed="rId5"/>
          <a:stretch/>
        </p:blipFill>
        <p:spPr>
          <a:xfrm>
            <a:off x="5529240" y="3733920"/>
            <a:ext cx="2243160" cy="2492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77880" y="34290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ulc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59360" y="628812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lerodacty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16360" y="62881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angectas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23160" y="327672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ckened, tight 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negative ANA, diagnosis is very unlik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irect immunofluorescence better than ELI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centromere Ab in 20-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Scl-70 (anti-topoisomerase) 20-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rrelates with worse progn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rove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isease-modifying medic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reening and early identification of internal organ involvement impor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 specific trea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brosis – immunosuppre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nal crisis – ACE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RD – PPI and behavioral chan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in diseases you’ll be see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heumatoid, spondyloarthropath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ystal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ut, Pseudog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immune disor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pus, Sclerodema, Autoimmune myos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scul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ge, medium, small vess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myositis (P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rmatomyosit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matomyositis sine myositis (just ski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matomyositis sine dermatitis (classic muscle biopsy finding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une-mediated necrotizing myopathy (IMN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n expo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mmetric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roxim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cle weakness that develops over weeks to mont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fficulty rising from a chair, walking up steps, washing or brushing ha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severe: dysphagia and respiratory distress from weakness of neck, pharyngeal and diapghragmatic mus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tal weakness very uncommon, suspect another diagn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rmato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5257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al Presentation: Sk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ottron papu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aised violaceous lesions at extensor surfaces of mcp, pip, di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ottron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at above s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eliotrope ras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ed/purplish discoloration of eyel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62720" y="4038480"/>
            <a:ext cx="1650960" cy="2473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465880" y="1162080"/>
            <a:ext cx="29923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rmato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152280" y="1645920"/>
            <a:ext cx="5943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hawl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across posterior neck and shoul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on anterior neck and ch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chanic’s hands/fee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hyperkeratotic skin thickening, often with painful crac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http://www.rheumtutor.com/wp-content/uploads/2013/07/Shawl-Sign.jpg"/>
          <p:cNvPicPr/>
          <p:nvPr/>
        </p:nvPicPr>
        <p:blipFill>
          <a:blip r:embed="rId2"/>
          <a:srcRect l="0" t="0" r="0" b="29377"/>
          <a:stretch/>
        </p:blipFill>
        <p:spPr>
          <a:xfrm>
            <a:off x="5715000" y="1390680"/>
            <a:ext cx="3200400" cy="2395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http://images.rheumatology.org/image_dir/album75696/md_99-09-0014.tif.jpg"/>
          <p:cNvPicPr/>
          <p:nvPr/>
        </p:nvPicPr>
        <p:blipFill>
          <a:blip r:embed="rId3"/>
          <a:stretch/>
        </p:blipFill>
        <p:spPr>
          <a:xfrm>
            <a:off x="5638680" y="4392720"/>
            <a:ext cx="33530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vated CK, aldolase, AST, ALT, LD from damaged muscle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 antibodies (anti-Jo-1, anti PL-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 positive in &gt;5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synthetase syndrome in dermatomysoitis: also with ILD, arthritis, fevers, raynaud’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I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cle edema, fascial inflam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MG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rritable myopat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uscle biops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enerally nonspecific findings, but rules out non-autoimmune myopath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M: perifascicular atrophy is speci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corticoids to control acute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per to lowest effective d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roid sparing agent: MTX, azathiopr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ercise: especially isometric, avoid heavy weight lif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vs. PM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myalgia Rheumatica (PMR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hing and stiffness of neck, shoulders, hips (vs. weaknes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vated ESR &gt;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 &gt;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pid response to prednisone 20mg/d or l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ion with GCA, but can occur independently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ixed Connective Tissue Diseas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lap syndrome with features of SLE, Scleroderma and Polymyos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stic clinical symptom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ynaud phenomenon, hand edema, synovitis, inflammatory muscle disease, sclerodacty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titers of anti-U1 RNP autoanti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scul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destruction of blood vess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clusion, rupture, thrombus can lead to tissue ischem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y in severity and presentation based on vessels aff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rcRect l="0" t="0" r="0" b="3875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are some clues your patient may have a rheumatologic diseas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al symp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ers, sweats, weight loss, fatig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acute time cour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ed over weeks to month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 symp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o or polyarticular joint pain, multisystem complaints (i.e. skin, lung, G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there signs of an inflammatory proces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ovitis, rash, serositis, elevated ESR/CR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scul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titutional sympto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acut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s of inflam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system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.e. Mononeuritis multi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tinct/named peripheral nerves infarcted one at a t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ue to vasculitis of vasa nervorum leading to ischem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llmarks are asynchrony and asymmet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gnose with biops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ease specific, often immunosuppressive therap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spect a rheumatologic process in patients with subacute onset of constitutional symptoms, signs of inflammation and multi system invol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t work-up started with thorough PE, targeted labs and xr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ult with Rheum and consider getting prednisone started to control acute disease, with a goal of tapering to the lowest effective dose when pos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itor for the longterm complications of autoimmune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do you get started on the work-u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rough physical ex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b te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BC w diff, ESR, CRP, ANA, targeted autoantibo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grap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osive arthritis, sacroill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in, muscle, kid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sics of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SA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mptom relief, especially joint p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lucocortico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utely, try to use steroid sparing agent if poss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sease-modifying antirheumatic drugs (DMARD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nthetic DM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ow onset, 2-6 month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trexate, Hydroxychloroquine, Sulfasalazine, Azathioprine, Mycophenolate mofetil, Cyclophosphami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ologic DM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oengineered protein drugs (antibodies or receptor-antibody chimeras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V or SQ on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apid ons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reen for and treat LTBI, HBV fir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liximab, Etancercept, Rituxim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roid Side Effec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ight g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abe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tara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omn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uid reten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ten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ximal weakn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ope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wea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steopor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f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sychiatric disturbance (eg, depression, mania, psychosi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asy bruising of the sk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em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ptic ulcer dise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ong term considerations for most autoimmune diseas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isk of CV death due to inflammation and accelerated atheroscler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gressive risk factor reduction: BP&lt;120/80, LDL&lt;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teoporosis from glucocortico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xa screening, Calcium-Vit D, bisphosphonates p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isk of certain malignanc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ymphoma, Lung/Cervical CA in Lu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flammatory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heumatoid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ndyloarthropath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ial skeletal involvement and polyarthritis of peripheral j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kylosing spondyl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ctive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soriatic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BD-associated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5T20:38:54Z</dcterms:created>
  <dc:creator> </dc:creator>
  <dc:description/>
  <dc:language>en-US</dc:language>
  <cp:lastModifiedBy> </cp:lastModifiedBy>
  <dcterms:modified xsi:type="dcterms:W3CDTF">2014-01-07T07:48:18Z</dcterms:modified>
  <cp:revision>23</cp:revision>
  <dc:subject/>
  <dc:title>Rheumatology Basics</dc:title>
</cp:coreProperties>
</file>